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88188" cy="9024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E9B-C0A9-472F-80A1-27712FFC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28A-FF4C-4443-9090-B7570EEC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7A1-0FC8-4880-8C6B-EFAA5B54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E30-C2EB-41BF-BD75-8B165DBF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1AD7-F22A-4DB1-969D-5953FFAC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C4B-41D7-453D-96A2-009B4C84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30F1-B6EE-403E-A65B-01B3902F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221-A79D-4D18-BD1D-101132DE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912-C1F1-4C9E-93E5-2C0051F8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5DC-CE15-4369-B9CF-299948F4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FCB-0A5A-4A6F-B71B-73AC50D9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874-CAF8-4986-87C8-F5038D37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D8D0-1861-4AD2-88C7-F8D25CE05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389640" cy="1447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5181840" cy="979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48320" y="2057400"/>
            <a:ext cx="9903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815328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23888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389640" cy="1498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22960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372520" cy="1663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68580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8:29:12Z</dcterms:created>
  <dc:creator>Graham</dc:creator>
  <dc:description/>
  <dc:language>en-US</dc:language>
  <cp:lastModifiedBy>Graham</cp:lastModifiedBy>
  <dcterms:modified xsi:type="dcterms:W3CDTF">2012-10-01T00:25:34Z</dcterms:modified>
  <cp:revision>2</cp:revision>
  <dc:subject/>
  <dc:title>Slide 1</dc:title>
</cp:coreProperties>
</file>